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D1DA-D928-49FC-BFE5-966B4933C3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was kindly donat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home to well over a thousand powerpoints submitted by teachers. This a free site. Please visit and I hope it will help in your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was kindly dona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home to well over a thousand powerpoints submitted by teachers. This a free site. Please visit and I hope it will help in your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191-F142-4AC3-A4D0-6E6EF4E7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0299-CAF3-46D5-B9B4-D55DDABB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1E93-0AB8-4672-BFAB-9E5C7135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7B32-D8F2-4423-B766-49001D7D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4FE1-481B-4F13-9F89-1E9CFCF1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AD4F-A44C-40D4-8C14-F341E3CF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4BA9-CDFE-4282-8CCD-1E7DFC26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B7A-78B0-48EB-8370-FBA59A93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3B5-898C-46FD-A721-A9E1749E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90F-AE02-4553-92CE-832128D5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2F4D-0797-4DD2-B3D2-301C4892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8BB-4B5D-4037-B0DC-1ADC471A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7647-D87A-4C64-B1FF-4ACC4C83B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1981080" y="1981080"/>
            <a:ext cx="56390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is powerpoint was kindly dona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Is home to well over a thousand powerpoints submitted by teachers. This a free site. Please visit and I hope it will help in your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Legion</cp:lastModifiedBy>
  <dcterms:modified xsi:type="dcterms:W3CDTF">2017-07-05T10:04:44Z</dcterms:modified>
  <cp:revision>22</cp:revision>
  <dc:subject/>
  <dc:title>The French and Indian War</dc:title>
</cp:coreProperties>
</file>